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BC0-03B1-4AD9-B94B-8F77CB9D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8668-0AA4-4381-94AB-166437D8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91B-248A-46BB-A092-2E279F7D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3142-5435-461C-9821-94224644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014-AC10-4C96-8936-67ACDE55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4EF0-4852-4642-AB30-9777040F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002-FF87-484F-80B3-27B84EC9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981-C0CB-4BA9-91A7-D184EB81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3A6-D61A-4301-9440-BEE32556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947-2FF8-4D3B-8564-9A42AE7A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76D4-239A-4DA4-865B-821E5BC1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A21-4430-430D-A3F4-820BD9C3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1872-BE8E-4BB0-9252-EADEC840A44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opp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Jane We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000" y="1484280"/>
            <a:ext cx="237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rmis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emembrance Sund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rim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ias binding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3280" y="148428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ace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arest Sunday to November 1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Armistice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rink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corative ribbon edging sewn around the collar/cuffs of uni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ym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2728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ing an image or object or idea to represent a broader concept or t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4-12-04T12:00:42Z</dcterms:modified>
  <cp:revision>60</cp:revision>
  <dc:subject/>
  <dc:title>La Belle Dame Sans Merci</dc:title>
</cp:coreProperties>
</file>